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2FB1-8CC8-4DC4-95D6-27C814511A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544-31B5-403A-876A-1E23D0D2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BA7-262D-401B-AB5F-7B9BEE6C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D0C-04EC-436F-88B8-DD2043CE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774-9947-4585-8268-87BFC8D1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125-08F3-4610-925D-D0F3EFEB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E6B-93FF-4B23-841B-0D54588E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7B1-04C6-4F84-A34C-4444E0E7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279-B157-4D50-AA76-3EC274CE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0E3-02D1-4D47-B661-474690D7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A1E-1E56-42EC-A8A6-14A8C5B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92D-D109-41F9-A011-D4C25F79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657-C879-400A-A079-92FD6FC5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EE3F-0DB9-4D06-A5C1-1171900762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98100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平方根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565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平方根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335772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平方根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90792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76720" y="907920"/>
                <a:ext cx="792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3276720" y="2492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3284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4292640"/>
            <a:ext cx="741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一个正数有两个平方根</a:t>
            </a: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它们互为相反数</a:t>
            </a: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零的平方根是零</a:t>
            </a: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负数没有平方根</a:t>
            </a: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9079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算术平方根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516720" y="765000"/>
                <a:ext cx="485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11280" y="177336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平方根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59280" y="1498680"/>
                <a:ext cx="1081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140360" y="1773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算术平方根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443640" y="1484280"/>
                <a:ext cx="8064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211640" y="2565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算术平方根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3357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算术平方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3284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2492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导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33760" y="1484280"/>
            <a:ext cx="45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数的立方根是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59240" y="2443320"/>
            <a:ext cx="46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数的立方根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05160" y="3284640"/>
            <a:ext cx="45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立方根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62560" y="4292640"/>
            <a:ext cx="542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何数都有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方根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17040" y="137952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微软雅黑"/>
              </a:rPr>
              <a:t>正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01040" y="238752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微软雅黑"/>
              </a:rPr>
              <a:t>负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83880" y="3216240"/>
            <a:ext cx="44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4292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微软雅黑"/>
              </a:rPr>
              <a:t>唯一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98760" y="3933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90792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微软雅黑"/>
                <a:ea typeface="微软雅黑"/>
              </a:rPr>
              <a:t>性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979640" y="3645000"/>
            <a:ext cx="4535640" cy="1439640"/>
            <a:chOff x="1979640" y="3645000"/>
            <a:chExt cx="4535640" cy="1439640"/>
          </a:xfrm>
        </p:grpSpPr>
        <p:sp>
          <p:nvSpPr>
            <p:cNvPr id="189" name=""/>
            <p:cNvSpPr/>
            <p:nvPr/>
          </p:nvSpPr>
          <p:spPr>
            <a:xfrm>
              <a:off x="1979640" y="3645000"/>
              <a:ext cx="4535640" cy="1439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2698920" y="3789000"/>
                  <a:ext cx="324000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a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826920" y="260280"/>
            <a:ext cx="7402680" cy="3030120"/>
            <a:chOff x="826920" y="260280"/>
            <a:chExt cx="7402680" cy="3030120"/>
          </a:xfrm>
        </p:grpSpPr>
        <p:sp>
          <p:nvSpPr>
            <p:cNvPr id="192" name=""/>
            <p:cNvSpPr/>
            <p:nvPr/>
          </p:nvSpPr>
          <p:spPr>
            <a:xfrm>
              <a:off x="826920" y="260280"/>
              <a:ext cx="7402680" cy="30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=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（     ），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  ），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4255560" y="2432520"/>
                  <a:ext cx="1428840" cy="85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2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038960" y="1710360"/>
                  <a:ext cx="111240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8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4217760" y="1740600"/>
                  <a:ext cx="1619280" cy="65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1113480" y="2549520"/>
                  <a:ext cx="107892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0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7" name=""/>
          <p:cNvSpPr/>
          <p:nvPr/>
        </p:nvSpPr>
        <p:spPr>
          <a:xfrm>
            <a:off x="2916360" y="170028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1771560"/>
            <a:ext cx="10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-2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16360" y="26370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89440" y="2563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55640" y="5661000"/>
            <a:ext cx="7391520" cy="800280"/>
          </a:xfrm>
          <a:prstGeom prst="rect">
            <a:avLst/>
          </a:prstGeom>
          <a:ln w="0">
            <a:noFill/>
          </a:ln>
        </p:spPr>
      </p:pic>
      <p:sp>
        <p:nvSpPr>
          <p:cNvPr id="202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684360" y="1484280"/>
            <a:ext cx="5906520" cy="2660760"/>
            <a:chOff x="684360" y="1484280"/>
            <a:chExt cx="5906520" cy="2660760"/>
          </a:xfrm>
        </p:grpSpPr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4005000" y="2924280"/>
                  <a:ext cx="2585880" cy="101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826920" y="1628640"/>
                  <a:ext cx="15714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140000" y="1484280"/>
                  <a:ext cx="194436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684360" y="2781360"/>
                  <a:ext cx="2015640" cy="13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8" name=""/>
          <p:cNvSpPr/>
          <p:nvPr/>
        </p:nvSpPr>
        <p:spPr>
          <a:xfrm>
            <a:off x="6084720" y="1773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18432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700360" y="2637000"/>
                <a:ext cx="11095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588000" y="314172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-0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050920" y="4149720"/>
            <a:ext cx="4535640" cy="1440000"/>
            <a:chOff x="2050920" y="4149720"/>
            <a:chExt cx="4535640" cy="1440000"/>
          </a:xfrm>
        </p:grpSpPr>
        <p:sp>
          <p:nvSpPr>
            <p:cNvPr id="213" name=""/>
            <p:cNvSpPr/>
            <p:nvPr/>
          </p:nvSpPr>
          <p:spPr>
            <a:xfrm>
              <a:off x="2050920" y="4149720"/>
              <a:ext cx="4535640" cy="1440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984400" y="4221000"/>
              <a:ext cx="3025800" cy="1198800"/>
              <a:chOff x="2984400" y="4221000"/>
              <a:chExt cx="3025800" cy="1198800"/>
            </a:xfrm>
          </p:grpSpPr>
          <mc:AlternateContent>
            <mc:Choice xmlns:a14="http://schemas.microsoft.com/office/drawing/2010/main" Requires="a14">
              <p:sp>
                <p:nvSpPr>
                  <p:cNvPr id="215" name=""/>
                  <p:cNvSpPr txBox="1"/>
                  <p:nvPr/>
                </p:nvSpPr>
                <p:spPr>
                  <a:xfrm>
                    <a:off x="2984400" y="4221000"/>
                    <a:ext cx="1768320" cy="11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6" name=""/>
              <p:cNvSpPr/>
              <p:nvPr/>
            </p:nvSpPr>
            <p:spPr>
              <a:xfrm>
                <a:off x="4929120" y="4411440"/>
                <a:ext cx="1081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62120" y="5797440"/>
            <a:ext cx="7391160" cy="80028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horz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50920" y="1700280"/>
                <a:ext cx="845964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①</m:t>
                        </m:r>
                        <m:r>
                          <m:t xml:space="preserve">∵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  <m:r>
                          <m:t xml:space="preserve">，</m:t>
                        </m:r>
                        <m:r>
                          <m:t xml:space="preserve">−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  <m:r>
                          <m:t xml:space="preserve">，</m:t>
                        </m:r>
                        <m:r>
                          <m:t xml:space="preserve">∴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___-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>
                        <m:r>
                          <m:t xml:space="preserve">②</m:t>
                        </m:r>
                        <m:r>
                          <m:t xml:space="preserve">∵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  <m:r>
                          <m:t xml:space="preserve">，</m:t>
                        </m:r>
                        <m:r>
                          <m:t xml:space="preserve">−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  <m:r>
                          <m:t xml:space="preserve">，</m:t>
                        </m:r>
                        <m:r>
                          <m:t xml:space="preserve">∴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___-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195640" y="1773360"/>
            <a:ext cx="6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6880" y="170028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72360" y="1773360"/>
            <a:ext cx="36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11280" y="2421000"/>
                <a:ext cx="935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859280" y="2349360"/>
                <a:ext cx="7794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7236000" y="2781360"/>
            <a:ext cx="36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050920" y="4149360"/>
            <a:ext cx="4392720" cy="1224000"/>
            <a:chOff x="2050920" y="4149360"/>
            <a:chExt cx="4392720" cy="1224000"/>
          </a:xfrm>
        </p:grpSpPr>
        <p:sp>
          <p:nvSpPr>
            <p:cNvPr id="227" name=""/>
            <p:cNvSpPr/>
            <p:nvPr/>
          </p:nvSpPr>
          <p:spPr>
            <a:xfrm flipV="1">
              <a:off x="2050920" y="4149000"/>
              <a:ext cx="4392720" cy="1222920"/>
            </a:xfrm>
            <a:prstGeom prst="rect">
              <a:avLst/>
            </a:prstGeom>
            <a:solidFill>
              <a:srgbClr val="ffff65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= -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554920" y="4437720"/>
                  <a:ext cx="140184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4571640" y="4437720"/>
                  <a:ext cx="1440720" cy="93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5797440"/>
            <a:ext cx="7391160" cy="800280"/>
          </a:xfrm>
          <a:prstGeom prst="rect">
            <a:avLst/>
          </a:prstGeom>
          <a:ln w="0">
            <a:noFill/>
          </a:ln>
        </p:spPr>
      </p:pic>
      <p:sp>
        <p:nvSpPr>
          <p:cNvPr id="231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96720" y="2565360"/>
          <a:ext cx="8532720" cy="2798640"/>
        </p:xfrm>
        <a:graphic>
          <a:graphicData uri="http://schemas.openxmlformats.org/drawingml/2006/table">
            <a:tbl>
              <a:tblPr/>
              <a:tblGrid>
                <a:gridCol w="1979640"/>
                <a:gridCol w="3600360"/>
                <a:gridCol w="2952720"/>
              </a:tblGrid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被开方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平方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立方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正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负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24000" y="155736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平方根和立方根的异同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370240" y="3241800"/>
          <a:ext cx="3600360" cy="210636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有两个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互为相反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无平方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5985000" y="3271680"/>
          <a:ext cx="2952720" cy="210672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有一个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是正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有一个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是负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42920" y="4221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方根是它本身的数有哪些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8360" y="49417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有</a:t>
            </a:r>
            <a:r>
              <a:rPr b="0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1, -1,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134136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方根是它本身的数呢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19162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只有 </a:t>
            </a:r>
            <a:r>
              <a:rPr b="0" lang="zh-CN" sz="4400" spc="-1" strike="noStrike">
                <a:solidFill>
                  <a:srgbClr val="0000ff"/>
                </a:solidFill>
                <a:latin typeface="微软雅黑"/>
                <a:ea typeface="微软雅黑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278136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算术平方根是它本身的数呢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3429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有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6836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别求下列各式的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35040" y="2550960"/>
                <a:ext cx="19051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443400" y="2467080"/>
                <a:ext cx="24382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10320" y="2190600"/>
                <a:ext cx="1600200" cy="11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00200" y="3762360"/>
                <a:ext cx="3962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9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检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68360" y="4149720"/>
            <a:ext cx="8064360" cy="2178000"/>
            <a:chOff x="468360" y="4149720"/>
            <a:chExt cx="8064360" cy="2178000"/>
          </a:xfrm>
        </p:grpSpPr>
        <p:sp>
          <p:nvSpPr>
            <p:cNvPr id="251" name=""/>
            <p:cNvSpPr/>
            <p:nvPr/>
          </p:nvSpPr>
          <p:spPr>
            <a:xfrm>
              <a:off x="468360" y="4854240"/>
              <a:ext cx="79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若                             ，则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x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260360" y="4149720"/>
              <a:ext cx="4127400" cy="2178000"/>
              <a:chOff x="1260360" y="4149720"/>
              <a:chExt cx="4127400" cy="217800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525320" y="4694040"/>
                    <a:ext cx="3862440" cy="999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1260360" y="5014800"/>
                <a:ext cx="4316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997080" y="4149720"/>
                <a:ext cx="12956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7237440" y="544500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8360" y="1628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x+3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立方根是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求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+17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2781360"/>
            <a:ext cx="828180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知正数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平方根是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a+3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3a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立方根是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,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+y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检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76500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：要做一个体积为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c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正方体模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的棱长要取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867280" y="2421000"/>
            <a:ext cx="1905120" cy="1828800"/>
            <a:chOff x="5867280" y="2421000"/>
            <a:chExt cx="1905120" cy="1828800"/>
          </a:xfrm>
        </p:grpSpPr>
        <p:sp>
          <p:nvSpPr>
            <p:cNvPr id="69" name="sxx13Line 2"/>
            <p:cNvSpPr/>
            <p:nvPr/>
          </p:nvSpPr>
          <p:spPr>
            <a:xfrm>
              <a:off x="5867280" y="2786760"/>
              <a:ext cx="0" cy="146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xx13Line 3"/>
            <p:cNvSpPr/>
            <p:nvPr/>
          </p:nvSpPr>
          <p:spPr>
            <a:xfrm>
              <a:off x="5867280" y="4249800"/>
              <a:ext cx="149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xx13Line 4"/>
            <p:cNvSpPr/>
            <p:nvPr/>
          </p:nvSpPr>
          <p:spPr>
            <a:xfrm flipV="1">
              <a:off x="7364160" y="2786760"/>
              <a:ext cx="0" cy="146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xx13Line 5"/>
            <p:cNvSpPr/>
            <p:nvPr/>
          </p:nvSpPr>
          <p:spPr>
            <a:xfrm>
              <a:off x="5867280" y="2786760"/>
              <a:ext cx="149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xx13Line 6"/>
            <p:cNvSpPr/>
            <p:nvPr/>
          </p:nvSpPr>
          <p:spPr>
            <a:xfrm flipV="1">
              <a:off x="5867280" y="2421000"/>
              <a:ext cx="408240" cy="36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xx13Line 7"/>
            <p:cNvSpPr/>
            <p:nvPr/>
          </p:nvSpPr>
          <p:spPr>
            <a:xfrm flipV="1">
              <a:off x="7364160" y="2421000"/>
              <a:ext cx="407880" cy="36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xx13Line 8"/>
            <p:cNvSpPr/>
            <p:nvPr/>
          </p:nvSpPr>
          <p:spPr>
            <a:xfrm>
              <a:off x="7772400" y="2421000"/>
              <a:ext cx="0" cy="146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xx13Line 9"/>
            <p:cNvSpPr/>
            <p:nvPr/>
          </p:nvSpPr>
          <p:spPr>
            <a:xfrm flipV="1">
              <a:off x="7364160" y="3884040"/>
              <a:ext cx="407880" cy="36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xx13Line 10"/>
            <p:cNvSpPr/>
            <p:nvPr/>
          </p:nvSpPr>
          <p:spPr>
            <a:xfrm>
              <a:off x="6275520" y="2421000"/>
              <a:ext cx="149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xx13Line 11"/>
            <p:cNvSpPr/>
            <p:nvPr/>
          </p:nvSpPr>
          <p:spPr>
            <a:xfrm>
              <a:off x="6275520" y="2421000"/>
              <a:ext cx="0" cy="146304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xx13Line 12"/>
            <p:cNvSpPr/>
            <p:nvPr/>
          </p:nvSpPr>
          <p:spPr>
            <a:xfrm flipV="1">
              <a:off x="5867280" y="3884040"/>
              <a:ext cx="408240" cy="3657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xx13Line 13"/>
            <p:cNvSpPr/>
            <p:nvPr/>
          </p:nvSpPr>
          <p:spPr>
            <a:xfrm>
              <a:off x="6275520" y="3884040"/>
              <a:ext cx="1496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24000" y="2205000"/>
            <a:ext cx="754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解：设它的棱长为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xc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根据题意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x</a:t>
            </a:r>
            <a:r>
              <a:rPr b="1" lang="zh-CN" sz="3200" spc="-1" strike="noStrike" baseline="30000">
                <a:solidFill>
                  <a:srgbClr val="ff3300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那么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x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65960" y="41562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2997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73960" y="38656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导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53960" y="162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85960" y="177336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51040" y="1628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52520" y="2131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4520" y="227664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49600" y="21319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53960" y="2611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85960" y="2755800"/>
            <a:ext cx="792000" cy="144720"/>
          </a:xfrm>
          <a:prstGeom prst="rightArrow">
            <a:avLst>
              <a:gd name="adj1" fmla="val 50000"/>
              <a:gd name="adj2" fmla="val 1368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51040" y="26114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53960" y="31161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85960" y="326088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51040" y="31161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53960" y="3619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85960" y="3763800"/>
            <a:ext cx="792000" cy="144720"/>
          </a:xfrm>
          <a:prstGeom prst="rightArrow">
            <a:avLst>
              <a:gd name="adj1" fmla="val 50000"/>
              <a:gd name="adj2" fmla="val 1368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51040" y="36194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765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记忆：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—10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数的立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838080"/>
            <a:ext cx="504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620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59640" y="76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71640" y="4437000"/>
                <a:ext cx="230508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282920" y="16444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4920" y="17892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155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1480" y="21477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3120" y="229248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78560" y="21477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2920" y="2627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78136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2627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82920" y="3132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3284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3132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7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364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378936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363528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988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导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7280" y="2349360"/>
            <a:ext cx="69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.2  </a:t>
            </a: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 方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议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6" name=""/>
          <p:cNvSpPr/>
          <p:nvPr/>
        </p:nvSpPr>
        <p:spPr>
          <a:xfrm>
            <a:off x="1668960" y="1412640"/>
            <a:ext cx="62078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议：提纲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，规范写法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议：提纲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的思路和解法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议：组长负责，解决疑难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展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13000"/>
            <a:ext cx="83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：口头展示提纲上的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：板书提纲上的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：板书并讲解提纲上的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1405080" y="3357720"/>
            <a:ext cx="792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20500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般地，一个数的立方等于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这个数就叫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立方根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也叫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三次方根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．记做　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　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940360" y="3500280"/>
                <a:ext cx="10587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012000" y="3500280"/>
            <a:ext cx="4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19700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概念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4869000"/>
            <a:ext cx="626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58920" y="4724280"/>
                <a:ext cx="87850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果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那么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叫做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的立方根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WordArt 17"/>
          <p:cNvSpPr txBox="1"/>
          <p:nvPr/>
        </p:nvSpPr>
        <p:spPr>
          <a:xfrm>
            <a:off x="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411280" y="836640"/>
          <a:ext cx="62568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836640"/>
                    <a:ext cx="6256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877080" y="765000"/>
          <a:ext cx="74772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765000"/>
                    <a:ext cx="7477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708360" y="1628640"/>
          <a:ext cx="3189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1628640"/>
                    <a:ext cx="3189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940360" y="1557360"/>
          <a:ext cx="34308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1557360"/>
                    <a:ext cx="3430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237320" y="907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一个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90720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立方根，用符号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0560" y="835560"/>
            <a:ext cx="14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表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29280" y="1483560"/>
            <a:ext cx="14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其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91480" y="1988280"/>
            <a:ext cx="23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叫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不能省略，若省略表示平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6020280"/>
            <a:ext cx="76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55520" y="1483560"/>
            <a:ext cx="20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读作：“三次根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87840" y="1308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1413000"/>
            <a:ext cx="20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叫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6000" y="137952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被开方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191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根指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5280" y="2924280"/>
            <a:ext cx="720720" cy="2806560"/>
            <a:chOff x="395280" y="2924280"/>
            <a:chExt cx="720720" cy="2806560"/>
          </a:xfrm>
        </p:grpSpPr>
        <p:sp>
          <p:nvSpPr>
            <p:cNvPr id="157" name=""/>
            <p:cNvSpPr/>
            <p:nvPr/>
          </p:nvSpPr>
          <p:spPr>
            <a:xfrm flipV="1">
              <a:off x="395280" y="2924280"/>
              <a:ext cx="720720" cy="28065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5280" y="2995920"/>
              <a:ext cx="6483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请观赏动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4" descr=""/>
          <p:cNvPicPr/>
          <p:nvPr/>
        </p:nvPicPr>
        <p:blipFill>
          <a:blip r:embed="rId9"/>
          <a:stretch/>
        </p:blipFill>
        <p:spPr>
          <a:xfrm>
            <a:off x="3592440" y="3586320"/>
            <a:ext cx="1814760" cy="181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492360" y="3789360"/>
                <a:ext cx="191484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Text Box 6"/>
          <p:cNvSpPr/>
          <p:nvPr/>
        </p:nvSpPr>
        <p:spPr>
          <a:xfrm>
            <a:off x="3998880" y="3870360"/>
            <a:ext cx="3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308480" y="4206960"/>
                <a:ext cx="8319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AutoShape 8"/>
          <p:cNvSpPr/>
          <p:nvPr/>
        </p:nvSpPr>
        <p:spPr>
          <a:xfrm rot="10860000">
            <a:off x="2862000" y="4495320"/>
            <a:ext cx="1446120" cy="76320"/>
          </a:xfrm>
          <a:prstGeom prst="rightArrow">
            <a:avLst>
              <a:gd name="adj1" fmla="val 50000"/>
              <a:gd name="adj2" fmla="val 47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332000" y="4292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三次根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1522440" y="3808440"/>
            <a:ext cx="13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根指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1"/>
          <p:cNvSpPr/>
          <p:nvPr/>
        </p:nvSpPr>
        <p:spPr>
          <a:xfrm rot="10860000">
            <a:off x="2700360" y="4076280"/>
            <a:ext cx="1447920" cy="76320"/>
          </a:xfrm>
          <a:prstGeom prst="rightArrow">
            <a:avLst>
              <a:gd name="adj1" fmla="val 50000"/>
              <a:gd name="adj2" fmla="val 474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5340000">
            <a:off x="4316400" y="5290200"/>
            <a:ext cx="795600" cy="228600"/>
          </a:xfrm>
          <a:prstGeom prst="rightArrow">
            <a:avLst>
              <a:gd name="adj1" fmla="val 50000"/>
              <a:gd name="adj2" fmla="val 87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4105440" y="5799240"/>
            <a:ext cx="16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被开方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 rot="21540000">
            <a:off x="5223960" y="4266720"/>
            <a:ext cx="574920" cy="405000"/>
          </a:xfrm>
          <a:prstGeom prst="rightArrow">
            <a:avLst>
              <a:gd name="adj1" fmla="val 50000"/>
              <a:gd name="adj2" fmla="val 354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673600" y="457200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表示：   的立方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470640" y="4587840"/>
                <a:ext cx="4129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Text Box 18"/>
          <p:cNvSpPr/>
          <p:nvPr/>
        </p:nvSpPr>
        <p:spPr>
          <a:xfrm>
            <a:off x="5799240" y="2303640"/>
            <a:ext cx="233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9"/>
          <p:cNvSpPr/>
          <p:nvPr/>
        </p:nvSpPr>
        <p:spPr>
          <a:xfrm>
            <a:off x="5292720" y="2565360"/>
            <a:ext cx="2368440" cy="679320"/>
          </a:xfrm>
          <a:prstGeom prst="cloudCallout">
            <a:avLst>
              <a:gd name="adj1" fmla="val -98814"/>
              <a:gd name="adj2" fmla="val 192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能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5818320" y="39020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读作：三次根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956720" y="3860640"/>
                <a:ext cx="4125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5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50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10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10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25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7:43:58Z</dcterms:created>
  <dc:creator>xcc</dc:creator>
  <dc:description/>
  <dc:language>en-US</dc:language>
  <cp:lastModifiedBy>尹会艳</cp:lastModifiedBy>
  <dcterms:modified xsi:type="dcterms:W3CDTF">2013-10-13T12:20:55Z</dcterms:modified>
  <cp:revision>77</cp:revision>
  <dc:subject/>
  <dc:title>幻灯片 1</dc:title>
</cp:coreProperties>
</file>